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E5AC-C9A9-4F6E-BD06-9977694C5AE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fore any matter, I would like to excuse me because my  English is very imperfect.  But I will try to be as comprehensible as  possi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pleased to expose you the situation of the  haemovigilance in Burkina Faso, mainly the reached results and the  difficulties noted during its implem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235B-628E-4E61-90CE-BC3E7D7E359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D29E-2404-41EE-BFA8-69B975CDF1A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D9B5-F34D-428F-BEA3-701076B1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78BD-E00A-45BE-9998-14B4C506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0742-2202-433E-A676-56AF4BE4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D36C-335A-4B22-A440-A372E7C2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CC12-D145-43C2-8A22-AE716E2C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3E8F-61D8-4D9E-A8B0-49D4955B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9AD1-5049-456A-A83F-E9C2E61A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E83D-D800-4AFB-870D-6232CFCD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2406-B4CC-4B73-A9BE-95E9652E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5957-5D5B-43E3-95AE-641A3F85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02F5-01F3-44FA-8B4C-1D8402E6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B947-E182-4E1F-9114-1B4F4B18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9FF8-01F0-49C3-9015-B6E09C67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171A-0EEA-4DA1-B701-EF6F1B1E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0193-0B42-4DF8-A3BC-FBDF847C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02F8-5F31-40E9-A209-DB780398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593E-45CA-4890-A78A-D11AAD23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F8DA-E694-4B43-968C-6F91E115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2935-56F8-4FD9-A5A2-67FAAC21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7341-8B14-4C4D-91F6-A0929038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B022-5719-4CAA-A0B5-2A3198CE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7EAD-A3D4-46F6-A81C-F8DE0E1A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E4CE-0872-4D31-B8FC-C8D7B93F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7C6B-A68E-4A97-AB40-C70B1FAC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1.png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63640" y="6356520"/>
            <a:ext cx="115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DF90-DB8D-4BC9-8EFA-0976836D965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1640" y="6356520"/>
            <a:ext cx="3240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5th International Haemovigilance Seminar - Brussels, 20 - 22 February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7853-0689-44DB-9B5B-737ADE42F8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mage 10" descr=""/>
          <p:cNvPicPr/>
          <p:nvPr/>
        </p:nvPicPr>
        <p:blipFill>
          <a:blip r:embed="rId2"/>
          <a:stretch/>
        </p:blipFill>
        <p:spPr>
          <a:xfrm>
            <a:off x="34920" y="6165720"/>
            <a:ext cx="1657440" cy="64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4" descr=""/>
          <p:cNvPicPr/>
          <p:nvPr/>
        </p:nvPicPr>
        <p:blipFill>
          <a:blip r:embed="rId3"/>
          <a:stretch/>
        </p:blipFill>
        <p:spPr>
          <a:xfrm>
            <a:off x="8101080" y="6093000"/>
            <a:ext cx="718920" cy="539640"/>
          </a:xfrm>
          <a:prstGeom prst="rect">
            <a:avLst/>
          </a:prstGeom>
          <a:ln w="0">
            <a:noFill/>
          </a:ln>
        </p:spPr>
      </p:pic>
      <p:sp>
        <p:nvSpPr>
          <p:cNvPr id="7" name="ZoneTexte 12"/>
          <p:cNvSpPr/>
          <p:nvPr/>
        </p:nvSpPr>
        <p:spPr>
          <a:xfrm>
            <a:off x="7471800" y="6576840"/>
            <a:ext cx="20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Juice ITC"/>
              </a:rPr>
              <a:t>Don régulier de s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necteur droit 13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 10" descr=""/>
          <p:cNvPicPr/>
          <p:nvPr/>
        </p:nvPicPr>
        <p:blipFill>
          <a:blip r:embed="rId2"/>
          <a:stretch/>
        </p:blipFill>
        <p:spPr>
          <a:xfrm>
            <a:off x="34920" y="6165720"/>
            <a:ext cx="1657440" cy="64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8101080" y="6093000"/>
            <a:ext cx="718920" cy="539640"/>
          </a:xfrm>
          <a:prstGeom prst="rect">
            <a:avLst/>
          </a:prstGeom>
          <a:ln w="0">
            <a:noFill/>
          </a:ln>
        </p:spPr>
      </p:pic>
      <p:sp>
        <p:nvSpPr>
          <p:cNvPr id="47" name="ZoneTexte 12"/>
          <p:cNvSpPr/>
          <p:nvPr/>
        </p:nvSpPr>
        <p:spPr>
          <a:xfrm>
            <a:off x="7471800" y="6576840"/>
            <a:ext cx="20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Juice ITC"/>
              </a:rPr>
              <a:t>Don régulier de s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onnecteur droit 13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age 14" descr=""/>
          <p:cNvPicPr/>
          <p:nvPr/>
        </p:nvPicPr>
        <p:blipFill>
          <a:blip r:embed="rId4"/>
          <a:stretch/>
        </p:blipFill>
        <p:spPr>
          <a:xfrm>
            <a:off x="34920" y="6165720"/>
            <a:ext cx="1657440" cy="64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5"/>
          <a:stretch/>
        </p:blipFill>
        <p:spPr>
          <a:xfrm>
            <a:off x="8101080" y="6093000"/>
            <a:ext cx="718920" cy="539640"/>
          </a:xfrm>
          <a:prstGeom prst="rect">
            <a:avLst/>
          </a:prstGeom>
          <a:ln w="0">
            <a:noFill/>
          </a:ln>
        </p:spPr>
      </p:pic>
      <p:sp>
        <p:nvSpPr>
          <p:cNvPr id="51" name="ZoneTexte 14"/>
          <p:cNvSpPr/>
          <p:nvPr/>
        </p:nvSpPr>
        <p:spPr>
          <a:xfrm>
            <a:off x="7471800" y="6576840"/>
            <a:ext cx="20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Juice ITC"/>
              </a:rPr>
              <a:t>Don régulier de s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necteur droit 15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979280" y="6356520"/>
            <a:ext cx="158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F05A-284C-4D50-A8FE-CB09814415F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780000" y="6356520"/>
            <a:ext cx="2239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5th International Haemovigilance Seminar - Brussels, 20 - 22 February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372000" y="6356520"/>
            <a:ext cx="1331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C519-C98E-4793-9C65-8BDF3337F1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alemserein@hotmail.com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1989000"/>
            <a:ext cx="8893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Book Antiqua"/>
              </a:rPr>
              <a:t>DIFFICULTIES IN HAEMOVIGILANCE IMPLEMENTATION IN BURKINA F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55640" y="3645000"/>
            <a:ext cx="813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Book Antiqua"/>
              </a:rPr>
              <a:t>SAWADOGO Salam, M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Book Antiqua"/>
              </a:rPr>
              <a:t>National Blood Transfusion Center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Book Antiqua"/>
              </a:rPr>
              <a:t>BURKINA FAS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 u="sng">
                <a:solidFill>
                  <a:srgbClr val="0000ff"/>
                </a:solidFill>
                <a:uFillTx/>
                <a:latin typeface="Book Antiqua"/>
                <a:hlinkClick r:id="rId1"/>
              </a:rPr>
              <a:t>salemserein@hotmail.com</a:t>
            </a:r>
            <a:r>
              <a:rPr b="0" lang="fr-FR" sz="27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6372360" y="6356520"/>
            <a:ext cx="133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778C-C902-4098-917B-5BA835170B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pied de page 4"/>
          <p:cNvSpPr/>
          <p:nvPr/>
        </p:nvSpPr>
        <p:spPr>
          <a:xfrm>
            <a:off x="3780000" y="6356520"/>
            <a:ext cx="2239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5th International Haemovigilance Seminar - Brussels, 20 - 22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2110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Book Antiqua"/>
              </a:rPr>
              <a:t>INDICATORS IN RBTC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79280" y="1816200"/>
          <a:ext cx="8783640" cy="4276800"/>
        </p:xfrm>
        <a:graphic>
          <a:graphicData uri="http://schemas.openxmlformats.org/drawingml/2006/table">
            <a:tbl>
              <a:tblPr/>
              <a:tblGrid>
                <a:gridCol w="4003920"/>
                <a:gridCol w="1296720"/>
                <a:gridCol w="943200"/>
                <a:gridCol w="1233360"/>
                <a:gridCol w="1306440"/>
              </a:tblGrid>
              <a:tr h="840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Quality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Tar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Number of functional CS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4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Number of units distribu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39 ,9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44, 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48 ,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0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Return rate of PTHF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68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70.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75.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0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% of confirmed transfu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38.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52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56.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Espace réservé du pied de page 4"/>
          <p:cNvSpPr/>
          <p:nvPr/>
        </p:nvSpPr>
        <p:spPr>
          <a:xfrm>
            <a:off x="3132000" y="6356520"/>
            <a:ext cx="32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5th International Haemovigilance Seminar - Brussels, 20 - 22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655308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2F8D-71E2-45FF-B181-EADFBC86F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itre 1"/>
          <p:cNvSpPr/>
          <p:nvPr/>
        </p:nvSpPr>
        <p:spPr>
          <a:xfrm>
            <a:off x="457200" y="44280"/>
            <a:ext cx="822960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Book Antiqua"/>
              </a:rPr>
              <a:t>RESULTS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Espace réservé du contenu 5" descr=""/>
          <p:cNvPicPr/>
          <p:nvPr/>
        </p:nvPicPr>
        <p:blipFill>
          <a:blip r:embed="rId1"/>
          <a:stretch/>
        </p:blipFill>
        <p:spPr>
          <a:xfrm>
            <a:off x="-49320" y="1549440"/>
            <a:ext cx="8785440" cy="4091040"/>
          </a:xfrm>
          <a:prstGeom prst="rect">
            <a:avLst/>
          </a:prstGeom>
          <a:ln w="0">
            <a:noFill/>
          </a:ln>
        </p:spPr>
      </p:pic>
      <p:sp>
        <p:nvSpPr>
          <p:cNvPr id="151" name="Espace réservé du pied de page 3"/>
          <p:cNvSpPr/>
          <p:nvPr/>
        </p:nvSpPr>
        <p:spPr>
          <a:xfrm>
            <a:off x="3132000" y="6356520"/>
            <a:ext cx="32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5th International Haemovigilance Seminar - Brussels, 20 - 22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4"/>
          <p:cNvSpPr/>
          <p:nvPr/>
        </p:nvSpPr>
        <p:spPr>
          <a:xfrm>
            <a:off x="655308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FE1E-99F8-46D8-BEF4-99A01B5C64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onnecteur droit 8"/>
          <p:cNvSpPr/>
          <p:nvPr/>
        </p:nvSpPr>
        <p:spPr>
          <a:xfrm>
            <a:off x="1187280" y="2565360"/>
            <a:ext cx="6913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re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Book Antiqua"/>
              </a:rPr>
              <a:t>RESULTS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Types of recipients’ incidents notified during blood transfusion regardless to the cause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pied de page 3"/>
          <p:cNvSpPr/>
          <p:nvPr/>
        </p:nvSpPr>
        <p:spPr>
          <a:xfrm>
            <a:off x="3132000" y="6356520"/>
            <a:ext cx="32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5th International Haemovigilance Seminar - Brussels, 20 - 22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4"/>
          <p:cNvSpPr/>
          <p:nvPr/>
        </p:nvSpPr>
        <p:spPr>
          <a:xfrm>
            <a:off x="655308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E449-9CEE-4EC1-99FA-D6B452A05D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Graphique 5" descr=""/>
          <p:cNvPicPr/>
          <p:nvPr/>
        </p:nvPicPr>
        <p:blipFill>
          <a:blip r:embed="rId1"/>
          <a:stretch/>
        </p:blipFill>
        <p:spPr>
          <a:xfrm>
            <a:off x="249120" y="1841400"/>
            <a:ext cx="8894880" cy="4035600"/>
          </a:xfrm>
          <a:prstGeom prst="rect">
            <a:avLst/>
          </a:prstGeom>
          <a:ln w="0">
            <a:noFill/>
          </a:ln>
        </p:spPr>
      </p:pic>
      <p:sp>
        <p:nvSpPr>
          <p:cNvPr id="159" name="Titre 1"/>
          <p:cNvSpPr/>
          <p:nvPr/>
        </p:nvSpPr>
        <p:spPr>
          <a:xfrm>
            <a:off x="-36360" y="544500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Types of incidents (%) notified 2010 - 2011 in the four RBTC (n = 44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itre 1"/>
          <p:cNvSpPr/>
          <p:nvPr/>
        </p:nvSpPr>
        <p:spPr>
          <a:xfrm>
            <a:off x="457200" y="44280"/>
            <a:ext cx="822960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Book Antiqua"/>
              </a:rPr>
              <a:t>RESULTS (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19120" y="11415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Book Antiqua"/>
              </a:rPr>
              <a:t>INDICATORS IN HBB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50920" y="1724040"/>
          <a:ext cx="8642160" cy="4419720"/>
        </p:xfrm>
        <a:graphic>
          <a:graphicData uri="http://schemas.openxmlformats.org/drawingml/2006/table">
            <a:tbl>
              <a:tblPr/>
              <a:tblGrid>
                <a:gridCol w="6505560"/>
                <a:gridCol w="1128600"/>
                <a:gridCol w="1008000"/>
              </a:tblGrid>
              <a:tr h="714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Quality indicators (Target = 100%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200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20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% HBB using required registries of traceabil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54.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98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% HBB using unique system for identifying blood donors and don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97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9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8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% HBB using standard registry for prescrip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57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90.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0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% HBB using PTHF to confirm transfus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199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Book Antiqua"/>
                          <a:ea typeface="Calibri"/>
                        </a:rPr>
                        <a:t>39.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Espace réservé du pied de page 3"/>
          <p:cNvSpPr/>
          <p:nvPr/>
        </p:nvSpPr>
        <p:spPr>
          <a:xfrm>
            <a:off x="3132000" y="6356520"/>
            <a:ext cx="32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5th International Haemovigilance Seminar - Brussels, 20 - 22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4"/>
          <p:cNvSpPr/>
          <p:nvPr/>
        </p:nvSpPr>
        <p:spPr>
          <a:xfrm>
            <a:off x="655308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D68A-80BB-4DAF-974C-DDA91C381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re 1"/>
          <p:cNvSpPr/>
          <p:nvPr/>
        </p:nvSpPr>
        <p:spPr>
          <a:xfrm>
            <a:off x="46836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Book Antiqua"/>
              </a:rPr>
              <a:t>RESULTS (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569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Book Antiqua"/>
              </a:rPr>
              <a:t>PROJECTED STRUCTURING OF HAEMOVIGILANC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pied de page 2"/>
          <p:cNvSpPr/>
          <p:nvPr/>
        </p:nvSpPr>
        <p:spPr>
          <a:xfrm>
            <a:off x="3132000" y="6356520"/>
            <a:ext cx="32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5th International Haemovigilance Seminar - Brussels, 20 - 22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655308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65AC-3253-42A1-BF90-99F2F4F6BB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2"/>
          <p:cNvGraphicFramePr/>
          <p:nvPr/>
        </p:nvGraphicFramePr>
        <p:xfrm>
          <a:off x="179280" y="1436760"/>
          <a:ext cx="489744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36760"/>
                    <a:ext cx="4897440" cy="4513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1" name="ZoneTexte 6"/>
          <p:cNvSpPr/>
          <p:nvPr/>
        </p:nvSpPr>
        <p:spPr>
          <a:xfrm>
            <a:off x="5291640" y="174312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Regulation &amp;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ZoneTexte 7"/>
          <p:cNvSpPr/>
          <p:nvPr/>
        </p:nvSpPr>
        <p:spPr>
          <a:xfrm>
            <a:off x="5638680" y="429264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Oper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oneTexte 8"/>
          <p:cNvSpPr/>
          <p:nvPr/>
        </p:nvSpPr>
        <p:spPr>
          <a:xfrm>
            <a:off x="5067720" y="3070080"/>
            <a:ext cx="397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Coordination &amp; superv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oneTexte 9"/>
          <p:cNvSpPr/>
          <p:nvPr/>
        </p:nvSpPr>
        <p:spPr>
          <a:xfrm>
            <a:off x="5208120" y="5300640"/>
            <a:ext cx="380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Support &amp; Operating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Book Antiqua"/>
              </a:rPr>
              <a:t>DIFFICULTIES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105228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13320" indent="-4834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1- </a:t>
            </a:r>
            <a:r>
              <a:rPr b="1" lang="en-US" sz="2500" spc="-1" strike="noStrike">
                <a:solidFill>
                  <a:srgbClr val="000000"/>
                </a:solidFill>
                <a:latin typeface="Book Antiqua"/>
              </a:rPr>
              <a:t>Lack of attentiveness 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at a high level for a well-structured organization and support system of blood transfusion and haemovigilance with the consequences such as 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No existence of central regulating structur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nsufficiency of the texts organizing and regulating blood transfusion and haemovigilanc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Blood transfusion system is slightly integrated to the national  health system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No collaboration between regional Health agencies and RBTC in HV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3320" indent="-483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u pied de page 3"/>
          <p:cNvSpPr/>
          <p:nvPr/>
        </p:nvSpPr>
        <p:spPr>
          <a:xfrm>
            <a:off x="3132000" y="6356520"/>
            <a:ext cx="32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5th International Haemovigilance Seminar - Brussels, 20 - 22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Espace réservé du numéro de diapositive 4"/>
          <p:cNvSpPr/>
          <p:nvPr/>
        </p:nvSpPr>
        <p:spPr>
          <a:xfrm>
            <a:off x="655308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4CD2-CB68-4203-9479-0DACB69086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299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Book Antiqua"/>
              </a:rPr>
              <a:t>DIFFICULTIES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98100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2- Insufficiency of NBTC financ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Unavailability of safe blood products through the whole countr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Lack of NBTC’s control on HBB not supplied in blood components by the RBT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Insufficiency of educational programs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on transfusion and haemovigilance for the actors (producers &amp; users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ack of motivated and interested staffs in  the field of haemovigilance and blood transfu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Espace réservé du pied de page 3"/>
          <p:cNvSpPr/>
          <p:nvPr/>
        </p:nvSpPr>
        <p:spPr>
          <a:xfrm>
            <a:off x="3132000" y="6356520"/>
            <a:ext cx="32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5th International Haemovigilance Seminar - Brussels, 20 - 22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Espace réservé du numéro de diapositive 4"/>
          <p:cNvSpPr/>
          <p:nvPr/>
        </p:nvSpPr>
        <p:spPr>
          <a:xfrm>
            <a:off x="655308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5ADF-D086-4161-8864-563233C493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Book Antiqua"/>
              </a:rPr>
              <a:t>RECOMMENDATIONS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nsure “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Universal Access to Safe Blood Transfusio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” on the whole coun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Improvement of availability of safe blood through the country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Increase of NBTC’s control on HBB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Reinforcement of regulation on transfusion and haemovigilance system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Reinforcement of integration of haemovigilance to quality syste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pied de page 3"/>
          <p:cNvSpPr/>
          <p:nvPr/>
        </p:nvSpPr>
        <p:spPr>
          <a:xfrm>
            <a:off x="3132000" y="6356520"/>
            <a:ext cx="32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5th International Haemovigilance Seminar - Brussels, 20 - 22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4"/>
          <p:cNvSpPr/>
          <p:nvPr/>
        </p:nvSpPr>
        <p:spPr>
          <a:xfrm>
            <a:off x="655308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8FF7-4009-4471-B91B-82213E97E4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Book Antiqua"/>
              </a:rPr>
              <a:t>RECOMMENDATIONS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1484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2- Haemovigilance must be the “business” of every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2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The Health authorities must be sensitized on the importance of haemovigilance in blood transfusion safety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2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All the staffs of health structures must be interested in haemovigilance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2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Espace réservé du pied de page 3"/>
          <p:cNvSpPr/>
          <p:nvPr/>
        </p:nvSpPr>
        <p:spPr>
          <a:xfrm>
            <a:off x="3132000" y="6356520"/>
            <a:ext cx="32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5th International Haemovigilance Seminar - Brussels, 20 - 22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ce réservé du numéro de diapositive 4"/>
          <p:cNvSpPr/>
          <p:nvPr/>
        </p:nvSpPr>
        <p:spPr>
          <a:xfrm>
            <a:off x="655308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574C-7C78-4A29-9D84-130153018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Book Antiqua"/>
              </a:rPr>
              <a:t>RECOMMENDATIONS (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268280"/>
            <a:ext cx="8964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3 - Reinforce competences of the staffs of health struc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inforcement of blood transfusion teaching in the curricula of health teaching school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gular recycling sessions for hospital staf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gular supportive supervisions  of transfusion and haemovigilance  ac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Espace réservé du pied de page 3"/>
          <p:cNvSpPr/>
          <p:nvPr/>
        </p:nvSpPr>
        <p:spPr>
          <a:xfrm>
            <a:off x="3132000" y="6356520"/>
            <a:ext cx="32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5th International Haemovigilance Seminar - Brussels, 20 - 22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4"/>
          <p:cNvSpPr/>
          <p:nvPr/>
        </p:nvSpPr>
        <p:spPr>
          <a:xfrm>
            <a:off x="655308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EB2E-9157-460B-B95C-DC83AB05C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pied de page 4"/>
          <p:cNvSpPr/>
          <p:nvPr/>
        </p:nvSpPr>
        <p:spPr>
          <a:xfrm>
            <a:off x="3132000" y="6356520"/>
            <a:ext cx="32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5th International Haemovigilance Seminar - Brussels, 20 - 22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space réservé du numéro de diapositive 5"/>
          <p:cNvSpPr/>
          <p:nvPr/>
        </p:nvSpPr>
        <p:spPr>
          <a:xfrm>
            <a:off x="655308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9518-98F0-4A19-8F2E-F4B1F9B202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569080" cy="5113440"/>
          </a:xfrm>
          <a:prstGeom prst="rect">
            <a:avLst/>
          </a:prstGeom>
          <a:ln w="0">
            <a:noFill/>
          </a:ln>
        </p:spPr>
      </p:pic>
      <p:sp>
        <p:nvSpPr>
          <p:cNvPr id="109" name="Ellipse 6"/>
          <p:cNvSpPr/>
          <p:nvPr/>
        </p:nvSpPr>
        <p:spPr>
          <a:xfrm>
            <a:off x="3513240" y="4724280"/>
            <a:ext cx="192240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0" y="947520"/>
            <a:ext cx="91440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The national haemovigilance structure is not yet complet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The NBTC assumes the role of the control structure because of the lack of a specific structure dedicated for this purpos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ome important results have been reached 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The efforts were focalized for the first step on the “notification culture ” of the transfusion incidents by the staffs of the health structures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Book Antiqua"/>
              </a:rPr>
              <a:t>CONCLUSION (1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655308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B710-39C0-45F6-8E38-1349A61433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pied de page 5"/>
          <p:cNvSpPr/>
          <p:nvPr/>
        </p:nvSpPr>
        <p:spPr>
          <a:xfrm>
            <a:off x="3132000" y="6356520"/>
            <a:ext cx="32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5th International Haemovigilance Seminar - Brussels, 20 - 22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79280" y="981000"/>
            <a:ext cx="89647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But to improve effectiveness of the system, the next steps must b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Well-implication of health authorities for more regulation, control and financing of blood transfusion system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Collaboration at regional level between regional health agencies and the RBTC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At the local level, improvement of hospital transfusion committees’ function and training of actor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Book Antiqua"/>
              </a:rPr>
              <a:t>CONCLUSION (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Espace réservé du numéro de diapositive 4"/>
          <p:cNvSpPr/>
          <p:nvPr/>
        </p:nvSpPr>
        <p:spPr>
          <a:xfrm>
            <a:off x="655308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BCA8-1800-46D1-9F0A-1C1FA7DC24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pied de page 5"/>
          <p:cNvSpPr/>
          <p:nvPr/>
        </p:nvSpPr>
        <p:spPr>
          <a:xfrm>
            <a:off x="3132000" y="6356520"/>
            <a:ext cx="32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5th International Haemovigilance Seminar - Brussels, 20 - 22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Book Antiqua"/>
              </a:rPr>
              <a:t>ACKNOWLEDGMENTS TO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81000"/>
            <a:ext cx="91440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The Luxembourg Agency of Development Cooperation (projet BKF/020 “d’appui au renforcement de la transfusion sanguine au Burkina Faso 2011 – 2015”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Book Antiqua"/>
              </a:rPr>
              <a:t>To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Profs D. SONDAG; V. DENEYS &amp; M. LAMBERMON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The staff of NBTC of Burkina Fa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pied de page 3"/>
          <p:cNvSpPr/>
          <p:nvPr/>
        </p:nvSpPr>
        <p:spPr>
          <a:xfrm>
            <a:off x="3132000" y="6356520"/>
            <a:ext cx="32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5th International Haemovigilance Seminar - Brussels, 20 - 22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4"/>
          <p:cNvSpPr/>
          <p:nvPr/>
        </p:nvSpPr>
        <p:spPr>
          <a:xfrm>
            <a:off x="655308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116B-EED9-4644-AA0D-99539490E2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pied de page 1"/>
          <p:cNvSpPr/>
          <p:nvPr/>
        </p:nvSpPr>
        <p:spPr>
          <a:xfrm>
            <a:off x="3132000" y="6356520"/>
            <a:ext cx="32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5th International Haemovigilance Seminar - Brussels, 20 - 22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2"/>
          <p:cNvSpPr/>
          <p:nvPr/>
        </p:nvSpPr>
        <p:spPr>
          <a:xfrm>
            <a:off x="655308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62E2-0123-4FBF-B638-2CA4659062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 18" descr=""/>
          <p:cNvPicPr/>
          <p:nvPr/>
        </p:nvPicPr>
        <p:blipFill>
          <a:blip r:embed="rId1"/>
          <a:stretch/>
        </p:blipFill>
        <p:spPr>
          <a:xfrm>
            <a:off x="0" y="260280"/>
            <a:ext cx="2843280" cy="3168720"/>
          </a:xfrm>
          <a:prstGeom prst="rect">
            <a:avLst/>
          </a:prstGeom>
          <a:ln w="0">
            <a:noFill/>
          </a:ln>
        </p:spPr>
      </p:pic>
      <p:sp>
        <p:nvSpPr>
          <p:cNvPr id="113" name="ZoneTexte 10"/>
          <p:cNvSpPr/>
          <p:nvPr/>
        </p:nvSpPr>
        <p:spPr>
          <a:xfrm>
            <a:off x="0" y="33577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he national coordination of blood transfusion services is not yet achie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Arial"/>
              </a:rPr>
              <a:t>The regional blood centers (a total of 4) coordinated by a national blood transfusion center still coexist with independent HBB (more than 5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mplementation of haemovigilance and quality systems are in hand but they are at unequal stage according to whether the areas is covered or not by the NB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2"/>
          <a:stretch/>
        </p:blipFill>
        <p:spPr>
          <a:xfrm>
            <a:off x="3132000" y="-27000"/>
            <a:ext cx="6012000" cy="3456000"/>
          </a:xfrm>
          <a:prstGeom prst="rect">
            <a:avLst/>
          </a:prstGeom>
          <a:ln w="0">
            <a:noFill/>
          </a:ln>
        </p:spPr>
      </p:pic>
      <p:sp>
        <p:nvSpPr>
          <p:cNvPr id="115" name="ZoneTexte 18"/>
          <p:cNvSpPr/>
          <p:nvPr/>
        </p:nvSpPr>
        <p:spPr>
          <a:xfrm>
            <a:off x="3059280" y="189000"/>
            <a:ext cx="29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BURKINA FA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5796000" y="2565360"/>
            <a:ext cx="144360" cy="142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18"/>
          <p:cNvSpPr/>
          <p:nvPr/>
        </p:nvSpPr>
        <p:spPr>
          <a:xfrm>
            <a:off x="5867280" y="2421000"/>
            <a:ext cx="32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Areas totally covered by HH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18"/>
          <p:cNvSpPr/>
          <p:nvPr/>
        </p:nvSpPr>
        <p:spPr>
          <a:xfrm>
            <a:off x="5867280" y="268920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Areas totally covered by RB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8"/>
          <p:cNvSpPr/>
          <p:nvPr/>
        </p:nvSpPr>
        <p:spPr>
          <a:xfrm>
            <a:off x="5796000" y="2984400"/>
            <a:ext cx="33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Areas partially covered by RBT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Connecteur droit avec flèche 4"/>
          <p:cNvCxnSpPr/>
          <p:nvPr/>
        </p:nvCxnSpPr>
        <p:spPr>
          <a:xfrm>
            <a:off x="826920" y="1341000"/>
            <a:ext cx="25934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Book Antiqua"/>
              </a:rPr>
              <a:t>AIMS &amp;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aim of the study was to report the difficulties in haemovigilance implementation at a national level in Burkina Fa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 order to achieve this purpose, we perfomed a prospective stu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ata were progressively collected during the process of  haemovigilance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pied de page 4"/>
          <p:cNvSpPr/>
          <p:nvPr/>
        </p:nvSpPr>
        <p:spPr>
          <a:xfrm>
            <a:off x="3132000" y="6356520"/>
            <a:ext cx="32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5th International Haemovigilance Seminar - Brussels, 20 - 22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655308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C267-1E4D-45F5-992E-2C22C41212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98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Implementation of HV: A multistep proces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(with </a:t>
            </a:r>
            <a:r>
              <a:rPr b="0" i="1" lang="en-US" sz="1600" spc="-1" strike="noStrike">
                <a:solidFill>
                  <a:srgbClr val="000000"/>
                </a:solidFill>
                <a:latin typeface="Book Antiqua"/>
              </a:rPr>
              <a:t>technical and financial support from WHO, EFS – Ile de France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ook Antiqua"/>
              </a:rPr>
              <a:t>and Luxembourg Agency for Development Cooperation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4954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Book Antiqua"/>
              </a:rPr>
              <a:t>stly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: Implementation of quality management system 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Editing guidelines, SOPs, etc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Conceiving supports of traceability and HV  mainly: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The quality improvement form for non-conformity of transfusion chain reporting (adverse events, near-miss)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The donor incident report form for donors adverse reactions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The post-transfusion and haemovigilance form (PTHF) for confirming transfusion and notifying transfusion incidents ++++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pied de page 3"/>
          <p:cNvSpPr/>
          <p:nvPr/>
        </p:nvSpPr>
        <p:spPr>
          <a:xfrm>
            <a:off x="3132000" y="6356520"/>
            <a:ext cx="32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5th International Haemovigilance Seminar - Brussels, 20 - 22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ce réservé du numéro de diapositive 4"/>
          <p:cNvSpPr/>
          <p:nvPr/>
        </p:nvSpPr>
        <p:spPr>
          <a:xfrm>
            <a:off x="655308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553F-1464-4234-AC3A-D59F93E982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98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Book Antiqua"/>
              </a:rPr>
              <a:t>Implementation of HV: A multistep proces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(with </a:t>
            </a:r>
            <a:r>
              <a:rPr b="0" i="1" lang="en-US" sz="1600" spc="-1" strike="noStrike">
                <a:solidFill>
                  <a:srgbClr val="000000"/>
                </a:solidFill>
                <a:latin typeface="Book Antiqua"/>
              </a:rPr>
              <a:t>technical and financial support from WHO, EFS – Ile de France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ook Antiqua"/>
              </a:rPr>
              <a:t>and Luxembourg Agency for Development Cooperation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1641240"/>
            <a:ext cx="91440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ndly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: A pilot implementation in RBTC of Bobo-Dioulasso from 2005 to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Book Antiqua"/>
              </a:rPr>
              <a:t>rdly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: Expansion of this experience to the three others RBTC (Ouagadougou, Koudougou and Fada N’Gourm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arallel to this approach, a every two years supervision of HBB non-affiliated to NBTC were conduc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finition of quality indicators (structure, process, outco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pied de page 4"/>
          <p:cNvSpPr/>
          <p:nvPr/>
        </p:nvSpPr>
        <p:spPr>
          <a:xfrm>
            <a:off x="3132000" y="6356520"/>
            <a:ext cx="32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5th International Haemovigilance Seminar - Brussels, 20 - 22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655308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5499-621B-4C15-9658-74E84BB12D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0" y="16398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major indicators in RBTC areas we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Book Antiqua"/>
              </a:rPr>
              <a:t>Return rate of the PTHF </a:t>
            </a: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(target = 95 per cent)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Book Antiqua"/>
              </a:rPr>
              <a:t>Confirmation rate blood transfusions </a:t>
            </a: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(Target = 80 per cent)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Book Antiqua"/>
              </a:rPr>
              <a:t>Ratio of transfusion incidents notified/1000 units distributed</a:t>
            </a: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 (target = 50 per 1000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Book Antiqua"/>
              </a:rPr>
              <a:t>Number of functional Committees of Safety Transfusion and Haemovigilance </a:t>
            </a: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(Hospital committees of blood transfusion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655308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F643-4CE1-41B9-A44A-0AD486A6CA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pied de page 4"/>
          <p:cNvSpPr/>
          <p:nvPr/>
        </p:nvSpPr>
        <p:spPr>
          <a:xfrm>
            <a:off x="3132000" y="6356520"/>
            <a:ext cx="32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5th International Haemovigilance Seminar - Brussels, 20 - 22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24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mplementation of HV: A multistep proc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(with </a:t>
            </a: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technical and financial support from WHO, EFS – Ile de France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and Luxembourg Agency for Development Cooperation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119664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 HBB, indicators still related to some total aspects such as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Using of required registries for traceability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(blood collection, laboratory testing and blood components distribution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mplementation of a unique system for identification of blood donors and blood don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Using of standard registry for blood products prescrip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Using of PTHF for confirming blood transfu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se indicators, attached to NBTC’ quality system were prospectively collected in its annual repor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655308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3C51-4004-4644-96B0-F9737CCEF7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pied de page 4"/>
          <p:cNvSpPr/>
          <p:nvPr/>
        </p:nvSpPr>
        <p:spPr>
          <a:xfrm>
            <a:off x="3132000" y="6356520"/>
            <a:ext cx="32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5th International Haemovigilance Seminar - Brussels, 20 - 22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124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mplementation of HV: A multistep proc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(with </a:t>
            </a: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technical and financial support from WHO, EFS – Ile de France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and Luxembourg Agency for Development Cooperation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Book Antiqua"/>
              </a:rPr>
              <a:t>RESULTS (1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9280" y="14130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A total of 57 blood centers = 4 RBTC &amp; 53 HBB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4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The 4 RBTC supplying blood components to 23 public hospitals &amp; more than 70 private hospital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4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Proportion of the population covered by the 4 RBTC :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Book Antiqua"/>
              </a:rPr>
              <a:t>42.5%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mpletely cover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Book Antiqua"/>
              </a:rPr>
              <a:t>16.2%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artially covered (the other part is supplied by HB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41.3% non-covered (blood supplying ensured by HB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pied de page 3"/>
          <p:cNvSpPr/>
          <p:nvPr/>
        </p:nvSpPr>
        <p:spPr>
          <a:xfrm>
            <a:off x="3132000" y="6356520"/>
            <a:ext cx="324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5th International Haemovigilance Seminar - Brussels, 20 - 22 February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4"/>
          <p:cNvSpPr/>
          <p:nvPr/>
        </p:nvSpPr>
        <p:spPr>
          <a:xfrm>
            <a:off x="6553080" y="63565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9940-B1A2-40FF-B6F4-92B721CF9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16:48:00Z</dcterms:created>
  <dc:creator>SALAM SAWADOGO</dc:creator>
  <dc:description/>
  <dc:language>en-US</dc:language>
  <cp:lastModifiedBy>Administrator</cp:lastModifiedBy>
  <dcterms:modified xsi:type="dcterms:W3CDTF">2013-04-09T12:45:28Z</dcterms:modified>
  <cp:revision>22</cp:revision>
  <dc:subject/>
  <dc:title>DIFFICULTIES IN HAEMOVIGILANCE IMPLEMENTATION IN BURKINA FAS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00071759</vt:r8>
  </property>
  <property fmtid="{D5CDD505-2E9C-101B-9397-08002B2CF9AE}" pid="3" name="_AuthorEmail">
    <vt:lpwstr>Sophie.Hamburger@mci-group.com</vt:lpwstr>
  </property>
  <property fmtid="{D5CDD505-2E9C-101B-9397-08002B2CF9AE}" pid="4" name="_AuthorEmailDisplayName">
    <vt:lpwstr>Sophie Hamburger (MCI Amsterdam)</vt:lpwstr>
  </property>
  <property fmtid="{D5CDD505-2E9C-101B-9397-08002B2CF9AE}" pid="5" name="_EmailSubject">
    <vt:lpwstr>6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